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3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8"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3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1" name="PlaceHolder 5"/>
          <p:cNvSpPr>
            <a:spLocks noGrp="1"/>
          </p:cNvSpPr>
          <p:nvPr>
            <p:ph type="ftr" idx="2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2" name="PlaceHolder 6"/>
          <p:cNvSpPr>
            <a:spLocks noGrp="1"/>
          </p:cNvSpPr>
          <p:nvPr>
            <p:ph type="sldNum" idx="2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AAFA-81EE-4CC4-BD8C-8B4C95F6A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EBC8A-659A-4EB4-BEE4-AEFBFA5CABB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nk you, Dr. Havenhold.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now, you have received and reviewed the Executive Summary of the report on the standard-setting activity that took place June 24-27.  Measurement Incorporated began preparing for this activity nearly a year ago.  We have worked closely with Consortium officials and staff to develop tests aligned to new curriculum standards and to craft performance level descriptors that clearly delineate what it means to be proficient in language arts and mathematics.  We brought 12 MI staff to this activity, each with a specific responsibility.  Each had spent several weeks in preparation, and we were able to carry out our assignments in strict accordance with a detailed plan we submitted to the you several months ago.  </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ound 3, we assembled two subgroups of 18 panelists, preselected to be representative of the region as a whole, to conduct vertical articulation. One panel reviewed all the language arts cut scores, and the other reviewed all the mathematics cut scores. Vertical articulation is a process whereby we examine cut scores for all grades for a given subject at one time. For language arts, for example, we selected 3 panelists from each grade to review all language arts cut scores for grades 3-8. We do this to make sure there is an orderly progression of expectations from grade to grade. For example, if the percentage of Proficient students in grade 6 were a great deal lower than the percentages for grades 5 and 7, we would want to make sure there was a valid reason other than the fact that the grade 6 language arts panel was more stringent in their application of the performance level descriptors. Vertical articulation gives us an opportunity to revisit any cut score that seems out of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viewing 36 separate cut scores (12 tests times 3 cut scores per test), the vertical articulation committees recommended changing 3, 2 in mathematics and 1 in language arts. In order to change any cut score, we required a formal motion, second, review of the existing cut score and the alternative, and a final vote. We required a 2/3 majority to pass any motion, a measure we take to honor and respect the work of the committees who provided the original recommendations.</a:t>
            </a:r>
            <a:endParaRPr b="0" lang="en-U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203AA-B990-4466-B81B-9615EC6D3DE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942EC-4D95-4AD0-A3B6-87E8DC0EF93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July 30, we took the Round 3 results, with the three changes made by the vertical articulation committee to the Consortium for further review. Consortium staff made one more minor adjustment, which is a routine part of standard setting. The recommended cut scores you received last week represent the work of the educator panels with these adjustment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9086-4D20-4DCC-A4EF-BBAB96C5B36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the recommended cut scores for language arts, reflected in the resolution presented to you.  These cut scores are expressed in terms of percent correct on this year’s tests, while those in the resolution are actual raw scores.  We have expressed the cut scores in this manner to make them more comparable to one another and to last year’s tests, which had different numbers of items and total points.</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4BA9-A764-4CE8-9167-EB2B8455F57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the recommended cut scores for mathematics, also included in the resolution presented to you.  These cut scores are also expressed in terms of percent correct on this year’s tests.  We have expressed the cut scores in this manner to make them more comparable to one another and to last year’s tests, which had different numbers of items and total points.</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B73E-008C-427E-AF5E-200F056F658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d on these cut scores, these are the percentages of students who would be classified as Proficient or above.  You have the percentage breakdowns by race, sex, region, and the other demographic factors in your written report.</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C2C5-47C4-4139-AD92-B7719D4575A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this year’s results compared to last year’s, we see that, for the most part, fewer students are classified as Proficient or Advanced this year. The tests given last year were the final forms of tests that had been administered statewide since 2012. The tests administered this year were new, reflecting the introduction of new content standards two years ago and performance level descriptors revised earlier this year. This year’s definition of Proficient, for example, is more rigorous – across all grade levels – than the definition of Proficient just a year ago. </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ght of the facts just presented, we believe these cut scores and resultant percentages of students at or above the Proficient level are valid and defensible. We recommend that the cut scores presented in the resolution presented to you today be adopted in whole. </a:t>
            </a:r>
            <a:endParaRPr b="0" lang="en-US" sz="1200" spc="-1" strike="noStrike">
              <a:solidFill>
                <a:srgbClr val="000000"/>
              </a:solidFill>
              <a:latin typeface="Times New Roman"/>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7651-654B-48F6-8DF2-20B06847105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the board and ask if there are any questions. </a:t>
            </a:r>
            <a:endParaRPr b="0" lang="en-US" sz="1200" spc="-1" strike="noStrike">
              <a:solidFill>
                <a:srgbClr val="000000"/>
              </a:solidFill>
              <a:latin typeface="Times New Roman"/>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D636-C1EA-400D-86EF-D4B3925C351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0823F-A11D-4028-A92A-629B4DD66E5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we met with educators a few weeks ago, we had three primary goals:</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of course, was to establish cut scores for Basic, Proficient, and Advanced on eight tests:  Language Arts and Mathematics in grades 3-8.</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 we wanted to make sure those cut scores lined up with definitions of Proficient and Advanced developed by the Consortium with the help of a large and representative group of educators in Consortium states.</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ly, we wanted to validate the cut scores, first in terms of a reality check with the performance of your students, and then through a review by Consortium official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29B4-4671-4129-9A7B-B8FAE2728A0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invited 180 educators to take part in the standard sett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person, or panelist, examined a single test for a single grade level: English Language Arts and Mathematics for grades 3-8. We organized the panelists into subject/grade groups of15 panelists each. We have found this number to be large enough to yield stable judgments, yet small enough to be manageabl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you see the demographic makeup of the panelists.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B1E2-D81C-4042-88DB-10DCC489E2F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directed the panelists’ attention to the definitions for the four performance levels: Below Basic, Basic, Proficient, and Advanc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ier this year, we worked with Consortium staff to update the definitions of each performance level, partly in response to requirements of ESSA and partly in response to changes in curriculum.  In May, Consortium staff met with teachers and administrators from around the region to finalize those definitions.</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689F6-640D-474A-AA61-157DFE4C7C6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tandard setting we conducted in July was a fairly involved proces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began by administering the tests.  This is frequently an eye-opener.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provided extensive training in the Performance Level Descriptors and the steps of the Bookmark standard-setting procedur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procedure includes three rounds of evaluating items and talking about them.</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tween Rounds 1 and 2, we showed panelists the full range of bookmarks and cut scores.</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tween Rounds 2 and 3, we showed this information again, as well as the distribution of scores of students who had taken the tests, as a reality check</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DF39-25D0-485C-9B76-683A2FA7CFA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31" name="PlaceHolder 1"/>
          <p:cNvSpPr>
            <a:spLocks noGrp="1"/>
          </p:cNvSpPr>
          <p:nvPr>
            <p:ph type="sldImg"/>
          </p:nvPr>
        </p:nvSpPr>
        <p:spPr>
          <a:xfrm>
            <a:off x="1144440" y="685800"/>
            <a:ext cx="4572000" cy="3429000"/>
          </a:xfrm>
          <a:prstGeom prst="rect">
            <a:avLst/>
          </a:prstGeom>
          <a:ln w="0">
            <a:noFill/>
          </a:ln>
        </p:spPr>
      </p:sp>
      <p:sp>
        <p:nvSpPr>
          <p:cNvPr id="432" name="PlaceHolder 2"/>
          <p:cNvSpPr>
            <a:spLocks noGrp="1"/>
          </p:cNvSpPr>
          <p:nvPr>
            <p:ph type="body"/>
          </p:nvPr>
        </p:nvSpPr>
        <p:spPr>
          <a:xfrm>
            <a:off x="914400" y="4343040"/>
            <a:ext cx="5029200" cy="4267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the panelists worked through the specially reformatted test booklets – arranged from easiest to hardest item – they asked themselves three questions. [Read questions.] Essentially, they continued to turn the page until they could not answer Yes to the final question.  Then they placed a bookmark on the first page where they had to say No.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first, they were thinking about the students who were just barely at the Basic level. After setting the bookmark for Basic, panelists began thinking in terms of the student just barely at the Proficient level.  After setting the bookmark for Proficient, panelists began thinking in terms of the student just barely at the Advanced level.  People had a variety of strategies for completing this task, but by Round 3, they had all become quite good at it.</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A146-3974-4C50-AF53-5C05FA42430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fore starting any of the three rounds, panelists completed a Readiness Form to indicate that they understood what they were supposed to d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is what they did in Round 1.  </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3180-692F-470E-80F5-6B6962B8C8C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analyzed the Round 1 results, gave them back to the panelists, and talked about them.</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n, the panelists proceeded with Round 2, just as they had with Round 1.</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D57E-74BE-4B94-9FD2-23B3A3B9260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nd 3 was very similar, except that by this time, we had shared the actual student results with the panelists, and they discussed the impact of their Round 2 cut scores extensively.</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the final round, we asked panelists to give us not only their bookmarks but the resulting cut scores and percentage of students who would receive a score equal to or greater than that cut score.  We distributed tables for this purpose and asked the panelists to highlight their bookmark page numbers and corresponding cuts and percentages, enter those data on their rating sheet, and turn it in.  The purpose of this step was to make sure each panelist knew the consequences of his or her decision.</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panelists completed Round 3, we quickly tabulated the final cut scores and shared them with them.  Panelists then completed their final evaluations of the process and outcomes.  All were completely satisfied with the process and very nearly all were completely satisfied with the outcomes.  A few thought one or more of the cut scores should have been higher or lower.  The final cut score in each instance was based on an average of the recommendations of all members of a given panel.</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AEA5C-8D76-4C28-A02A-F933A3B8B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58057-3152-448B-9A6D-6F495591C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6B044-33C0-4852-B6AD-4CA1232F5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36ADB-72C0-4506-9C23-C7F2CF8E8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7044A8-BF2F-479A-8557-A3B5E1F3D0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37ADF-C821-4B65-BEC9-70B3C5166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0D8E7-F217-49E3-9F5D-0D58DEA60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B24A9-57AE-4298-A039-ACFC6BB0E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B2EEA-68F0-4038-9A49-89C3DFB9E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399AD-C7E2-4043-AF3D-04B647428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5BEEF-8713-478F-A8CE-7778AD84A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324E9-8266-47E4-B5B1-5FEF85D81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33142-110B-459B-B4DE-EAC70CFE5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65454-9C5A-4398-917A-085BDC17D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907CC-8F44-408D-B21E-3C8E8CC9F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05254C-02E2-4B59-B11E-6BC14FFA55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1D1C0D-0385-4FC1-9596-F310BA7D7B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BC882C8-2BA1-4C85-A296-EABAF97659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D3994DF-E000-4FBF-8CE9-C9C9453B3B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6EEA26F-7538-4BB0-8DA6-60033D74C7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AB674AE-9457-4D6C-8916-A8F559F39F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90725B7-85A1-422D-A38C-521626DACD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CE9F3-4930-4028-BD8C-979B5ABC9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BA3B48F-BD18-40C9-94B0-D7B48EDB69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3AE3DF2-B01C-4DD1-A91C-AC77812B7A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15A6387-82AE-437A-882B-083ABB898C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E3B56E7-0EDA-436F-9700-227958BA65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AEA4768-25A8-4D5F-AC28-AF9432B91C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155EC8D-FC87-4CDD-AC4C-6387ECA50C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ABDB2B1-8897-4CAA-B2CC-27541C25D6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878ACD-7268-4143-B398-4DE3ABFC8C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98AB8F-2194-4A95-ADAB-26C30D2AAF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3841D7-F89C-42F6-AF56-CA112FBC7C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45C5D-2B25-499B-A4FB-D63DFC3F0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06E2D5-7E7A-4683-9695-61174375CB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654372-C747-44D4-B723-9277CF063F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2F3FFA-607F-4EBC-996E-1C27E1114A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C2D9D2-3B90-4EE8-B4D7-2A1C8EFC7B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501EC0-76B8-4274-9B83-B906DA4A47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7AC97E-B81D-43D7-82FC-E76CD4A6B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2BF83E-950B-4C47-8C57-F7C95D11D3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6D8DEE-2436-430E-9B97-1128401844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5BFF87-6DFD-4C15-A346-47A78BAADE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6BF242-4F2B-414F-986F-AD83559F23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5344D-A45A-4BC9-A5FC-5DF6F0B78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F6F288-97E7-4C17-A639-D5D79E9792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DD5CC2-BA2B-4C3D-B392-42052AE0C3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6FA4D6-6B48-4A19-AD45-FB467EF684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E906CD-EBB4-42D7-84D0-E5B1A05E4A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9544D7-A357-4A87-8C64-7C2E928992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C0409A-5A92-45C5-8C0A-DE5CBBA8C5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8DC5D7-D0F1-41A7-B16E-2F52D4D048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45929D-7C71-46FB-BE45-E13B29EF57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C5436B-E06B-48ED-8FCD-8E7F10CD76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288DF2-E3B3-4B29-AA3E-2BC53CA439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90CCC-5A00-4E04-AF03-D14F01551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A95A4B-E84C-4376-BBB0-8A80F3BDFD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07ED27-1F2B-4B31-BAED-4575A3CAF0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FE7F72-2AE9-4D9E-A850-53155D7816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7E1762-1D50-4197-9894-F5D33F5213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CB2CA6-B194-4B0D-8F86-6B38D9B820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176A22-667A-44E0-9A53-E12B82FC55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583D33-FF70-4431-9313-9468D755FF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7D6B52-250A-4AF2-8A90-1528A310F4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186452-0F1F-4B0A-9714-62F0B9C70F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B06082-99EB-4E6E-9A9A-53E3E90AA5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B2571-9546-44C2-8CD9-8A848196D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77D031-2C06-4ECA-B058-5CB2AC1A21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B719AC-8605-418F-B4CE-A3C7314081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06EC0F-4EF8-4C56-B8A6-52F31BEC4E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05B9E5-BCB5-48B8-A15E-0B34A0E5EF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AFA5BC-3C73-4F11-B62C-580D7CAE3F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7163AD-2C63-4B6F-B5E9-5C595394DB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0479A9-71AE-4CA4-B8D5-51D578D2D3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956D4C-DD23-40D1-AD62-883C99848B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15EC21-ECD5-4D16-90E3-49E24BB25D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3DBEE1-DA91-4B47-BBE2-DA8753D5C7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53AEB-B0C8-46DC-BEBB-387453BA4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44B10D-1BAB-4BD6-A242-B279211003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6AFAAC-D5F5-4289-AF17-3F956959F1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AC4FB6-2BE9-4156-9A5F-21A9DB3F4A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BF4D53-68B5-48E9-AC2D-9D8A7EF8A5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558655-0F5F-4DCD-ABD0-019F3392F1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B39BA-18F3-45B5-8DF3-B129916D8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F3411-3F0C-4C0D-8701-A670550FBD2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ABDD-48DC-49FF-81C3-8D866C21E14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8207A-4B4A-41E7-B34B-5D3256F4BC8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8B432-90AD-49AE-8EB6-11B5A76E2F9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29" name="PlaceHolder 3"/>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 name="PlaceHolder 5"/>
          <p:cNvSpPr>
            <a:spLocks noGrp="1"/>
          </p:cNvSpPr>
          <p:nvPr>
            <p:ph type="sldNum" idx="15"/>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AEA1-EE3E-45A2-AACC-02EEF11982B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2"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8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83" name="PlaceHolder 3"/>
          <p:cNvSpPr>
            <a:spLocks noGrp="1"/>
          </p:cNvSpPr>
          <p:nvPr>
            <p:ph type="dt" idx="16"/>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PlaceHolder 4"/>
          <p:cNvSpPr>
            <a:spLocks noGrp="1"/>
          </p:cNvSpPr>
          <p:nvPr>
            <p:ph type="ftr" idx="17"/>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 name="PlaceHolder 5"/>
          <p:cNvSpPr>
            <a:spLocks noGrp="1"/>
          </p:cNvSpPr>
          <p:nvPr>
            <p:ph type="sldNum" idx="18"/>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C6BE-2EC4-4193-B575-6D4211A4F48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6"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3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37" name="PlaceHolder 3"/>
          <p:cNvSpPr>
            <a:spLocks noGrp="1"/>
          </p:cNvSpPr>
          <p:nvPr>
            <p:ph type="dt" idx="19"/>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 name="PlaceHolder 4"/>
          <p:cNvSpPr>
            <a:spLocks noGrp="1"/>
          </p:cNvSpPr>
          <p:nvPr>
            <p:ph type="ftr" idx="20"/>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 name="PlaceHolder 5"/>
          <p:cNvSpPr>
            <a:spLocks noGrp="1"/>
          </p:cNvSpPr>
          <p:nvPr>
            <p:ph type="sldNum" idx="21"/>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BC9F-F1BD-4675-83A9-EEC63459D97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0" y="266652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Generic Board Presentation</a:t>
            </a:r>
            <a:endParaRPr b="0" lang="en-US" sz="54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Vertical Articulation</a:t>
            </a:r>
            <a:endParaRPr b="0" lang="en-US" sz="4000" spc="-1" strike="noStrike">
              <a:solidFill>
                <a:srgbClr val="424456"/>
              </a:solidFill>
              <a:latin typeface="Trebuchet MS"/>
            </a:endParaRPr>
          </a:p>
        </p:txBody>
      </p:sp>
      <p:sp>
        <p:nvSpPr>
          <p:cNvPr id="401" name=""/>
          <p:cNvSpPr txBox="1"/>
          <p:nvPr/>
        </p:nvSpPr>
        <p:spPr>
          <a:xfrm>
            <a:off x="457200" y="2249640"/>
            <a:ext cx="8229600" cy="432432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36 panelists</a:t>
            </a:r>
            <a:endParaRPr b="0" lang="en-US" sz="28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18 per subject</a:t>
            </a:r>
            <a:endParaRPr b="0" lang="en-US" sz="26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3 per grade per subject</a:t>
            </a:r>
            <a:endParaRPr b="0" lang="en-US" sz="2600" spc="-1" strike="noStrike">
              <a:solidFill>
                <a:srgbClr val="438086"/>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view of cut scores and impact across grades</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djustment of some cut scores by voting</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Calibri"/>
              </a:rPr>
              <a:t>Validation</a:t>
            </a:r>
            <a:r>
              <a:rPr b="0" lang="en-US" sz="4000" spc="-1" strike="noStrike">
                <a:solidFill>
                  <a:srgbClr val="000000"/>
                </a:solidFill>
                <a:latin typeface="Calibri"/>
                <a:ea typeface="Calibri"/>
              </a:rPr>
              <a:t>	</a:t>
            </a:r>
            <a:endParaRPr b="0" lang="en-US" sz="4000" spc="-1" strike="noStrike">
              <a:solidFill>
                <a:srgbClr val="424456"/>
              </a:solidFill>
              <a:latin typeface="Trebuchet MS"/>
            </a:endParaRPr>
          </a:p>
        </p:txBody>
      </p:sp>
      <p:sp>
        <p:nvSpPr>
          <p:cNvPr id="403" name=""/>
          <p:cNvSpPr txBox="1"/>
          <p:nvPr/>
        </p:nvSpPr>
        <p:spPr>
          <a:xfrm>
            <a:off x="457200" y="2249640"/>
            <a:ext cx="8229600" cy="432432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Review by Consortium officials</a:t>
            </a:r>
            <a:endParaRPr b="0" lang="en-US" sz="4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Comparison to previous years </a:t>
            </a:r>
            <a:endParaRPr b="0" lang="en-US" sz="4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Cross-grade adjustments</a:t>
            </a:r>
            <a:endParaRPr b="0" lang="en-US" sz="4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4456"/>
                </a:solidFill>
                <a:latin typeface="Calibri"/>
                <a:ea typeface="Calibri"/>
              </a:rPr>
              <a:t>Language Arts Cut Scores</a:t>
            </a:r>
            <a:br>
              <a:rPr sz="4400"/>
            </a:br>
            <a:r>
              <a:rPr b="1" lang="en-US" sz="4400" spc="-1" strike="noStrike">
                <a:solidFill>
                  <a:srgbClr val="424456"/>
                </a:solidFill>
                <a:latin typeface="Calibri"/>
                <a:ea typeface="Calibri"/>
              </a:rPr>
              <a:t>(% Correct)</a:t>
            </a:r>
            <a:endParaRPr b="0" lang="en-US" sz="4400" spc="-1" strike="noStrike">
              <a:solidFill>
                <a:srgbClr val="424456"/>
              </a:solidFill>
              <a:latin typeface="Trebuchet MS"/>
            </a:endParaRPr>
          </a:p>
        </p:txBody>
      </p:sp>
      <p:graphicFrame>
        <p:nvGraphicFramePr>
          <p:cNvPr id="405" name=""/>
          <p:cNvGraphicFramePr/>
          <p:nvPr/>
        </p:nvGraphicFramePr>
        <p:xfrm>
          <a:off x="533520" y="1905120"/>
          <a:ext cx="8076960" cy="4506840"/>
        </p:xfrm>
        <a:graphic>
          <a:graphicData uri="http://schemas.openxmlformats.org/drawingml/2006/table">
            <a:tbl>
              <a:tblPr/>
              <a:tblGrid>
                <a:gridCol w="1371600"/>
                <a:gridCol w="2235240"/>
                <a:gridCol w="2234880"/>
                <a:gridCol w="2235240"/>
              </a:tblGrid>
              <a:tr h="639720">
                <a:tc>
                  <a:txBody>
                    <a:bodyPr lIns="90000" rIns="90000" anchor="b">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gridSpan="3">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Level</a:t>
                      </a:r>
                      <a:endParaRPr b="0" lang="en-US" sz="36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552240">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Grade</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Basic</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Proficient</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Advanced</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2600">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3</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9</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2</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78</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2600">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4</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2</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4</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81</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2240">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5</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1</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3</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83</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2600">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3</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3</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79</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2240">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7</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8</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0</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82</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2600">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0</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4</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83</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4456"/>
                </a:solidFill>
                <a:latin typeface="Calibri"/>
                <a:ea typeface="Calibri"/>
              </a:rPr>
              <a:t>Mathematics Cut Scores</a:t>
            </a:r>
            <a:br>
              <a:rPr sz="4400"/>
            </a:br>
            <a:r>
              <a:rPr b="1" lang="en-US" sz="4400" spc="-1" strike="noStrike">
                <a:solidFill>
                  <a:srgbClr val="424456"/>
                </a:solidFill>
                <a:latin typeface="Calibri"/>
                <a:ea typeface="Calibri"/>
              </a:rPr>
              <a:t>(% Correct)</a:t>
            </a:r>
            <a:endParaRPr b="0" lang="en-US" sz="4400" spc="-1" strike="noStrike">
              <a:solidFill>
                <a:srgbClr val="424456"/>
              </a:solidFill>
              <a:latin typeface="Trebuchet MS"/>
            </a:endParaRPr>
          </a:p>
        </p:txBody>
      </p:sp>
      <p:graphicFrame>
        <p:nvGraphicFramePr>
          <p:cNvPr id="407" name=""/>
          <p:cNvGraphicFramePr/>
          <p:nvPr/>
        </p:nvGraphicFramePr>
        <p:xfrm>
          <a:off x="457200" y="1905120"/>
          <a:ext cx="8153280" cy="4506840"/>
        </p:xfrm>
        <a:graphic>
          <a:graphicData uri="http://schemas.openxmlformats.org/drawingml/2006/table">
            <a:tbl>
              <a:tblPr/>
              <a:tblGrid>
                <a:gridCol w="1117440"/>
                <a:gridCol w="2345040"/>
                <a:gridCol w="2346120"/>
                <a:gridCol w="2344680"/>
              </a:tblGrid>
              <a:tr h="639720">
                <a:tc>
                  <a:txBody>
                    <a:bodyPr lIns="90000" rIns="90000" anchor="b">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gridSpan="3">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Level</a:t>
                      </a:r>
                      <a:endParaRPr b="0" lang="en-US" sz="36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552240">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Grade</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Basic</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Proficient</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Advanced</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2600">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3</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0</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1</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83</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2600">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4</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7</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3</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79</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2240">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5</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9</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0</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77</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2600">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2</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0</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82</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2240">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7</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2</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2</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81</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2600">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8</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6</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78</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304560"/>
            <a:ext cx="853416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24456"/>
                </a:solidFill>
                <a:latin typeface="Calibri"/>
                <a:ea typeface="Calibri"/>
              </a:rPr>
              <a:t>Results:  </a:t>
            </a:r>
            <a:br>
              <a:rPr sz="4800"/>
            </a:br>
            <a:r>
              <a:rPr b="1" lang="en-US" sz="4800" spc="-1" strike="noStrike">
                <a:solidFill>
                  <a:srgbClr val="424456"/>
                </a:solidFill>
                <a:latin typeface="Calibri"/>
                <a:ea typeface="Calibri"/>
              </a:rPr>
              <a:t>% Proficient or Above</a:t>
            </a:r>
            <a:endParaRPr b="0" lang="en-US" sz="4800" spc="-1" strike="noStrike">
              <a:solidFill>
                <a:srgbClr val="424456"/>
              </a:solidFill>
              <a:latin typeface="Trebuchet MS"/>
            </a:endParaRPr>
          </a:p>
        </p:txBody>
      </p:sp>
      <p:graphicFrame>
        <p:nvGraphicFramePr>
          <p:cNvPr id="409" name=""/>
          <p:cNvGraphicFramePr/>
          <p:nvPr/>
        </p:nvGraphicFramePr>
        <p:xfrm>
          <a:off x="990720" y="1736640"/>
          <a:ext cx="7467480" cy="4937040"/>
        </p:xfrm>
        <a:graphic>
          <a:graphicData uri="http://schemas.openxmlformats.org/drawingml/2006/table">
            <a:tbl>
              <a:tblPr/>
              <a:tblGrid>
                <a:gridCol w="1814400"/>
                <a:gridCol w="2513160"/>
                <a:gridCol w="3139920"/>
              </a:tblGrid>
              <a:tr h="6397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endParaRPr b="0" lang="en-US" sz="36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grid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Test</a:t>
                      </a:r>
                      <a:endParaRPr b="0" lang="en-US" sz="36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118908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Grade</a:t>
                      </a:r>
                      <a:endParaRPr b="0" lang="en-US" sz="36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Language Arts</a:t>
                      </a:r>
                      <a:endParaRPr b="0" lang="en-US" sz="36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Mathematics</a:t>
                      </a:r>
                      <a:endParaRPr b="0" lang="en-US" sz="36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1768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3</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9</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6</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1912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4</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6</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5</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1732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5</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1</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57</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1912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54</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4</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1768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7</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70</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6</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1732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1</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58</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90360" y="0"/>
            <a:ext cx="754380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424456"/>
                </a:solidFill>
                <a:latin typeface="Calibri"/>
                <a:ea typeface="Calibri"/>
              </a:rPr>
              <a:t>Results:  </a:t>
            </a:r>
            <a:br>
              <a:rPr sz="4900"/>
            </a:br>
            <a:r>
              <a:rPr b="0" lang="en-US" sz="4900" spc="-1" strike="noStrike">
                <a:solidFill>
                  <a:srgbClr val="424456"/>
                </a:solidFill>
                <a:latin typeface="Calibri"/>
                <a:ea typeface="Calibri"/>
              </a:rPr>
              <a:t>Compared to Last Year</a:t>
            </a:r>
            <a:endParaRPr b="0" lang="en-US" sz="4900" spc="-1" strike="noStrike">
              <a:solidFill>
                <a:srgbClr val="424456"/>
              </a:solidFill>
              <a:latin typeface="Trebuchet MS"/>
            </a:endParaRPr>
          </a:p>
        </p:txBody>
      </p:sp>
      <p:graphicFrame>
        <p:nvGraphicFramePr>
          <p:cNvPr id="411" name=""/>
          <p:cNvGraphicFramePr/>
          <p:nvPr/>
        </p:nvGraphicFramePr>
        <p:xfrm>
          <a:off x="1219320" y="1600200"/>
          <a:ext cx="6705360" cy="4846680"/>
        </p:xfrm>
        <a:graphic>
          <a:graphicData uri="http://schemas.openxmlformats.org/drawingml/2006/table">
            <a:tbl>
              <a:tblPr/>
              <a:tblGrid>
                <a:gridCol w="1417680"/>
                <a:gridCol w="1149120"/>
                <a:gridCol w="1428840"/>
                <a:gridCol w="1422360"/>
                <a:gridCol w="1287360"/>
              </a:tblGrid>
              <a:tr h="579600">
                <a:tc gridSpan="5">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Proficient or Above</a:t>
                      </a:r>
                      <a:endParaRPr b="0" lang="en-US" sz="32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57924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rade</a:t>
                      </a:r>
                      <a:endParaRPr b="0" lang="en-US" sz="32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grid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Lang. Arts</a:t>
                      </a:r>
                      <a:endParaRPr b="0" lang="en-US" sz="32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ath</a:t>
                      </a:r>
                      <a:endParaRPr b="0" lang="en-US" sz="32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5778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2020</a:t>
                      </a:r>
                      <a:endParaRPr b="0" lang="en-US" sz="32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2019</a:t>
                      </a:r>
                      <a:endParaRPr b="0" lang="en-US" sz="32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2020</a:t>
                      </a:r>
                      <a:endParaRPr b="0" lang="en-US" sz="32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2019</a:t>
                      </a:r>
                      <a:endParaRPr b="0" lang="en-US" sz="32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1912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3</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9</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6</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6</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2</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1768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4</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6</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4</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5</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0</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1912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5</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1</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9</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57</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4</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1732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54</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76</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4</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79</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1912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7</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70</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0</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6</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6</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1768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1</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4</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58</a:t>
                      </a:r>
                      <a:endParaRPr b="0" lang="en-US" sz="2800" spc="-1" strike="noStrike">
                        <a:solidFill>
                          <a:srgbClr val="000000"/>
                        </a:solidFill>
                        <a:latin typeface="Tahoma"/>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8</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ecommendation</a:t>
            </a:r>
            <a:endParaRPr b="0" lang="en-US" sz="4000" spc="-1" strike="noStrike">
              <a:solidFill>
                <a:srgbClr val="424456"/>
              </a:solidFill>
              <a:latin typeface="Trebuchet MS"/>
            </a:endParaRPr>
          </a:p>
        </p:txBody>
      </p:sp>
      <p:sp>
        <p:nvSpPr>
          <p:cNvPr id="413" name="TextBox 3"/>
          <p:cNvSpPr/>
          <p:nvPr/>
        </p:nvSpPr>
        <p:spPr>
          <a:xfrm>
            <a:off x="1066680" y="1981080"/>
            <a:ext cx="716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cept cut scores as presente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143000"/>
            <a:ext cx="8229600" cy="236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Calibri"/>
              </a:rPr>
              <a:t>Thank you!</a:t>
            </a:r>
            <a:br>
              <a:rPr sz="4800"/>
            </a:br>
            <a:r>
              <a:rPr b="0" lang="en-US" sz="4800" spc="-1" strike="noStrike">
                <a:solidFill>
                  <a:srgbClr val="000000"/>
                </a:solidFill>
                <a:latin typeface="Calibri"/>
                <a:ea typeface="Calibri"/>
              </a:rPr>
              <a:t>Are there any questions?</a:t>
            </a:r>
            <a:endParaRPr b="0" lang="en-US" sz="48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Calibri"/>
              </a:rPr>
              <a:t>Objectives</a:t>
            </a:r>
            <a:endParaRPr b="0" lang="en-US" sz="5400" spc="-1" strike="noStrike">
              <a:solidFill>
                <a:srgbClr val="424456"/>
              </a:solidFill>
              <a:latin typeface="Trebuchet MS"/>
            </a:endParaRPr>
          </a:p>
        </p:txBody>
      </p:sp>
      <p:sp>
        <p:nvSpPr>
          <p:cNvPr id="385" name=""/>
          <p:cNvSpPr txBox="1"/>
          <p:nvPr/>
        </p:nvSpPr>
        <p:spPr>
          <a:xfrm>
            <a:off x="914040" y="2438280"/>
            <a:ext cx="8077320" cy="3657600"/>
          </a:xfrm>
          <a:prstGeom prst="rect">
            <a:avLst/>
          </a:prstGeom>
          <a:noFill/>
          <a:ln w="0">
            <a:noFill/>
          </a:ln>
        </p:spPr>
        <p:txBody>
          <a:bodyPr anchor="t">
            <a:normAutofit/>
          </a:bodyPr>
          <a:p>
            <a:pPr marL="365040" indent="-255600">
              <a:lnSpc>
                <a:spcPct val="160000"/>
              </a:lnSpc>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Establish Cut Scores</a:t>
            </a:r>
            <a:endParaRPr b="0" lang="en-US" sz="44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lign Cut Scores with Definitions</a:t>
            </a:r>
            <a:endParaRPr b="0" lang="en-US" sz="4400" spc="-1" strike="noStrike">
              <a:solidFill>
                <a:srgbClr val="000000"/>
              </a:solidFill>
              <a:latin typeface="Georgia"/>
            </a:endParaRPr>
          </a:p>
          <a:p>
            <a:pPr marL="365040" indent="-255600">
              <a:lnSpc>
                <a:spcPct val="160000"/>
              </a:lnSpc>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Validate Cut Score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8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24456"/>
                </a:solidFill>
                <a:latin typeface="Calibri"/>
                <a:ea typeface="Calibri"/>
              </a:rPr>
              <a:t>Panelists</a:t>
            </a:r>
            <a:endParaRPr b="0" lang="en-US" sz="4800" spc="-1" strike="noStrike">
              <a:solidFill>
                <a:srgbClr val="424456"/>
              </a:solidFill>
              <a:latin typeface="Trebuchet MS"/>
            </a:endParaRPr>
          </a:p>
        </p:txBody>
      </p:sp>
      <p:sp>
        <p:nvSpPr>
          <p:cNvPr id="387" name="PlaceHolder 2"/>
          <p:cNvSpPr>
            <a:spLocks noGrp="1"/>
          </p:cNvSpPr>
          <p:nvPr>
            <p:ph/>
          </p:nvPr>
        </p:nvSpPr>
        <p:spPr>
          <a:xfrm>
            <a:off x="685440" y="1523520"/>
            <a:ext cx="8077320" cy="48769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12 Panels</a:t>
            </a:r>
            <a:endParaRPr b="0" lang="en-US" sz="40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180 Educators</a:t>
            </a:r>
            <a:endParaRPr b="0" lang="en-US" sz="40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124 Female; 56 Male</a:t>
            </a:r>
            <a:endParaRPr b="0" lang="en-US" sz="40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116 White; 19 Hispanic;            </a:t>
            </a:r>
            <a:endParaRPr b="0" lang="en-US" sz="40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42 African American; </a:t>
            </a:r>
            <a:endParaRPr b="0" lang="en-US" sz="40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3 Other</a:t>
            </a:r>
            <a:endParaRPr b="0" lang="en-US" sz="40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14 Bilingual or Multilingual</a:t>
            </a:r>
            <a:endParaRPr b="0" lang="en-US" sz="40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All States in the Consortium</a:t>
            </a:r>
            <a:endParaRPr b="0" lang="en-US" sz="4000" spc="-1" strike="noStrike">
              <a:solidFill>
                <a:srgbClr val="000000"/>
              </a:solidFill>
              <a:latin typeface="Georgia"/>
            </a:endParaRPr>
          </a:p>
          <a:p>
            <a:pPr marL="365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387">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387">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87">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387">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87">
                                            <p:txEl>
                                              <p:pRg st="4" end="4"/>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387">
                                            <p:txEl>
                                              <p:pRg st="5" end="5"/>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387">
                                            <p:txEl>
                                              <p:pRg st="6" end="6"/>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38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24456"/>
                </a:solidFill>
                <a:latin typeface="Calibri"/>
                <a:ea typeface="Calibri"/>
              </a:rPr>
              <a:t>Proficiency Levels</a:t>
            </a:r>
            <a:endParaRPr b="0" lang="en-US" sz="4800" spc="-1" strike="noStrike">
              <a:solidFill>
                <a:srgbClr val="424456"/>
              </a:solidFill>
              <a:latin typeface="Trebuchet MS"/>
            </a:endParaRPr>
          </a:p>
        </p:txBody>
      </p:sp>
      <p:sp>
        <p:nvSpPr>
          <p:cNvPr id="389" name="PlaceHolder 2"/>
          <p:cNvSpPr>
            <a:spLocks noGrp="1"/>
          </p:cNvSpPr>
          <p:nvPr>
            <p:ph/>
          </p:nvPr>
        </p:nvSpPr>
        <p:spPr>
          <a:xfrm>
            <a:off x="0" y="2361960"/>
            <a:ext cx="7772400" cy="2514600"/>
          </a:xfrm>
          <a:prstGeom prst="rect">
            <a:avLst/>
          </a:prstGeom>
          <a:noFill/>
          <a:ln w="0">
            <a:noFill/>
          </a:ln>
        </p:spPr>
        <p:txBody>
          <a:bodyPr anchor="t">
            <a:normAutofit fontScale="64000"/>
          </a:bodyPr>
          <a:p>
            <a:pPr marL="233280" indent="-16344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Below Basic</a:t>
            </a:r>
            <a:endParaRPr b="0" lang="en-US" sz="4000" spc="-1" strike="noStrike">
              <a:solidFill>
                <a:srgbClr val="000000"/>
              </a:solidFill>
              <a:latin typeface="Georgia"/>
            </a:endParaRPr>
          </a:p>
          <a:p>
            <a:pPr marL="233280" indent="-16344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Basic</a:t>
            </a:r>
            <a:endParaRPr b="0" lang="en-US" sz="4000" spc="-1" strike="noStrike">
              <a:solidFill>
                <a:srgbClr val="000000"/>
              </a:solidFill>
              <a:latin typeface="Georgia"/>
            </a:endParaRPr>
          </a:p>
          <a:p>
            <a:pPr marL="233280" indent="-16344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Proficient </a:t>
            </a:r>
            <a:endParaRPr b="0" lang="en-US" sz="4000" spc="-1" strike="noStrike">
              <a:solidFill>
                <a:srgbClr val="000000"/>
              </a:solidFill>
              <a:latin typeface="Georgia"/>
            </a:endParaRPr>
          </a:p>
          <a:p>
            <a:pPr marL="233280" indent="-16344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Advanced</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600200" y="152280"/>
            <a:ext cx="5486400" cy="1447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Calibri"/>
              </a:rPr>
              <a:t>Procedures</a:t>
            </a:r>
            <a:endParaRPr b="0" lang="en-US" sz="4800" spc="-1" strike="noStrike">
              <a:solidFill>
                <a:srgbClr val="424456"/>
              </a:solidFill>
              <a:latin typeface="Trebuchet MS"/>
            </a:endParaRPr>
          </a:p>
        </p:txBody>
      </p:sp>
      <p:sp>
        <p:nvSpPr>
          <p:cNvPr id="391" name="PlaceHolder 2"/>
          <p:cNvSpPr>
            <a:spLocks noGrp="1"/>
          </p:cNvSpPr>
          <p:nvPr>
            <p:ph/>
          </p:nvPr>
        </p:nvSpPr>
        <p:spPr>
          <a:xfrm>
            <a:off x="914400" y="1600200"/>
            <a:ext cx="8229600" cy="502920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Test Administration</a:t>
            </a:r>
            <a:endParaRPr b="0" lang="en-US" sz="4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Training</a:t>
            </a:r>
            <a:endParaRPr b="0" lang="en-US" sz="4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The Bookmark Procedure</a:t>
            </a:r>
            <a:endParaRPr b="0" lang="en-US" sz="40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3 Rounds</a:t>
            </a:r>
            <a:endParaRPr b="0" lang="en-US" sz="4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Discussion Between Rounds</a:t>
            </a:r>
            <a:endParaRPr b="0" lang="en-US" sz="4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Impact Data Before Round 3</a:t>
            </a:r>
            <a:endParaRPr b="0" lang="en-US" sz="4000" spc="-1" strike="noStrike">
              <a:solidFill>
                <a:srgbClr val="438086"/>
              </a:solidFill>
              <a:latin typeface="Georgi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391">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91">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91">
                                            <p:txEl>
                                              <p:pRg st="4" end="4"/>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3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304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4456"/>
                </a:solidFill>
                <a:latin typeface="Calibri"/>
                <a:ea typeface="Calibri"/>
              </a:rPr>
              <a:t>Bookmark Setting Questions</a:t>
            </a:r>
            <a:endParaRPr b="0" lang="en-US" sz="4800" spc="-1" strike="noStrike">
              <a:solidFill>
                <a:srgbClr val="424456"/>
              </a:solidFill>
              <a:latin typeface="Trebuchet MS"/>
            </a:endParaRPr>
          </a:p>
        </p:txBody>
      </p:sp>
      <p:sp>
        <p:nvSpPr>
          <p:cNvPr id="393" name="PlaceHolder 2"/>
          <p:cNvSpPr>
            <a:spLocks noGrp="1"/>
          </p:cNvSpPr>
          <p:nvPr>
            <p:ph/>
          </p:nvPr>
        </p:nvSpPr>
        <p:spPr>
          <a:xfrm>
            <a:off x="762120" y="1600200"/>
            <a:ext cx="7772400" cy="4038480"/>
          </a:xfrm>
          <a:prstGeom prst="rect">
            <a:avLst/>
          </a:prstGeom>
          <a:noFill/>
          <a:ln w="0">
            <a:noFill/>
          </a:ln>
        </p:spPr>
        <p:txBody>
          <a:bodyPr anchor="t">
            <a:normAutofit fontScale="87000"/>
          </a:bodyPr>
          <a:p>
            <a:pPr marL="317520" indent="-2221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What knowledge or skill is required to earn this point?</a:t>
            </a:r>
            <a:endParaRPr b="0" lang="en-US" sz="4000" spc="-1" strike="noStrike">
              <a:solidFill>
                <a:srgbClr val="000000"/>
              </a:solidFill>
              <a:latin typeface="Georgia"/>
            </a:endParaRPr>
          </a:p>
          <a:p>
            <a:pPr marL="317520"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317520" indent="-2221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What makes later items more difficult than earlier items?</a:t>
            </a:r>
            <a:endParaRPr b="0" lang="en-US" sz="4000" spc="-1" strike="noStrike">
              <a:solidFill>
                <a:srgbClr val="000000"/>
              </a:solidFill>
              <a:latin typeface="Georgia"/>
            </a:endParaRPr>
          </a:p>
          <a:p>
            <a:pPr marL="317520"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317520" indent="-2221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Think of a large group of students at the cut score for this level.  Would about 2/3 of them earn this point?</a:t>
            </a:r>
            <a:endParaRPr b="0" lang="en-US" sz="4000" spc="-1" strike="noStrike">
              <a:solidFill>
                <a:srgbClr val="000000"/>
              </a:solidFill>
              <a:latin typeface="Georgia"/>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Calibri"/>
              </a:rPr>
              <a:t>Round 1</a:t>
            </a:r>
            <a:endParaRPr b="0" lang="en-US" sz="4800" spc="-1" strike="noStrike">
              <a:solidFill>
                <a:srgbClr val="424456"/>
              </a:solidFill>
              <a:latin typeface="Trebuchet MS"/>
            </a:endParaRPr>
          </a:p>
        </p:txBody>
      </p:sp>
      <p:sp>
        <p:nvSpPr>
          <p:cNvPr id="395" name=""/>
          <p:cNvSpPr txBox="1"/>
          <p:nvPr/>
        </p:nvSpPr>
        <p:spPr>
          <a:xfrm>
            <a:off x="457200" y="2249640"/>
            <a:ext cx="8229600" cy="432432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Review items ordered by difficulty</a:t>
            </a:r>
            <a:endParaRPr b="0" lang="en-US" sz="4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Discuss with team members</a:t>
            </a:r>
            <a:endParaRPr b="0" lang="en-US" sz="4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Enter 3 bookmarks</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Calibri"/>
              </a:rPr>
              <a:t>Round 2</a:t>
            </a:r>
            <a:endParaRPr b="0" lang="en-US" sz="4800" spc="-1" strike="noStrike">
              <a:solidFill>
                <a:srgbClr val="424456"/>
              </a:solidFill>
              <a:latin typeface="Trebuchet MS"/>
            </a:endParaRPr>
          </a:p>
        </p:txBody>
      </p:sp>
      <p:sp>
        <p:nvSpPr>
          <p:cNvPr id="397" name=""/>
          <p:cNvSpPr txBox="1"/>
          <p:nvPr/>
        </p:nvSpPr>
        <p:spPr>
          <a:xfrm>
            <a:off x="457200" y="2249640"/>
            <a:ext cx="8229600" cy="432432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Review results of Round 1</a:t>
            </a:r>
            <a:endParaRPr b="0" lang="en-US" sz="40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Range of bookmarks</a:t>
            </a:r>
            <a:endParaRPr b="0" lang="en-US" sz="40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Cut scores</a:t>
            </a:r>
            <a:endParaRPr b="0" lang="en-US" sz="4000" spc="-1" strike="noStrike">
              <a:solidFill>
                <a:srgbClr val="438086"/>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Review items</a:t>
            </a:r>
            <a:endParaRPr b="0" lang="en-US" sz="4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Discuss with team members</a:t>
            </a:r>
            <a:endParaRPr b="0" lang="en-US" sz="4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Enter 3 bookmarks</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480"/>
            <a:ext cx="8229600" cy="10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Calibri"/>
              </a:rPr>
              <a:t>Round 3</a:t>
            </a:r>
            <a:endParaRPr b="0" lang="en-US" sz="4800" spc="-1" strike="noStrike">
              <a:solidFill>
                <a:srgbClr val="424456"/>
              </a:solidFill>
              <a:latin typeface="Trebuchet MS"/>
            </a:endParaRPr>
          </a:p>
        </p:txBody>
      </p:sp>
      <p:sp>
        <p:nvSpPr>
          <p:cNvPr id="399" name=""/>
          <p:cNvSpPr txBox="1"/>
          <p:nvPr/>
        </p:nvSpPr>
        <p:spPr>
          <a:xfrm>
            <a:off x="990360" y="1371600"/>
            <a:ext cx="7543800" cy="4952880"/>
          </a:xfrm>
          <a:prstGeom prst="rect">
            <a:avLst/>
          </a:prstGeom>
          <a:noFill/>
          <a:ln w="0">
            <a:noFill/>
          </a:ln>
        </p:spPr>
        <p:txBody>
          <a:bodyPr anchor="t">
            <a:normAutofit fontScale="92000"/>
          </a:bodyPr>
          <a:p>
            <a:pPr marL="335520" indent="-235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Review results of Round 2</a:t>
            </a:r>
            <a:endParaRPr b="0" lang="en-US" sz="3600" spc="-1" strike="noStrike">
              <a:solidFill>
                <a:srgbClr val="000000"/>
              </a:solidFill>
              <a:latin typeface="Georgia"/>
            </a:endParaRPr>
          </a:p>
          <a:p>
            <a:pPr lvl="1" marL="604440" indent="-2264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Range of bookmarks</a:t>
            </a:r>
            <a:endParaRPr b="0" lang="en-US" sz="3600" spc="-1" strike="noStrike">
              <a:solidFill>
                <a:srgbClr val="438086"/>
              </a:solidFill>
              <a:latin typeface="Georgia"/>
            </a:endParaRPr>
          </a:p>
          <a:p>
            <a:pPr lvl="1" marL="604440" indent="-2264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Cut scores</a:t>
            </a:r>
            <a:endParaRPr b="0" lang="en-US" sz="3600" spc="-1" strike="noStrike">
              <a:solidFill>
                <a:srgbClr val="438086"/>
              </a:solidFill>
              <a:latin typeface="Georgia"/>
            </a:endParaRPr>
          </a:p>
          <a:p>
            <a:pPr lvl="1" marL="604440" indent="-2264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Impact</a:t>
            </a:r>
            <a:endParaRPr b="0" lang="en-US" sz="3600" spc="-1" strike="noStrike">
              <a:solidFill>
                <a:srgbClr val="438086"/>
              </a:solidFill>
              <a:latin typeface="Georgia"/>
            </a:endParaRPr>
          </a:p>
          <a:p>
            <a:pPr marL="335520" indent="-235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Review items</a:t>
            </a:r>
            <a:endParaRPr b="0" lang="en-US" sz="3600" spc="-1" strike="noStrike">
              <a:solidFill>
                <a:srgbClr val="000000"/>
              </a:solidFill>
              <a:latin typeface="Georgia"/>
            </a:endParaRPr>
          </a:p>
          <a:p>
            <a:pPr marL="335520" indent="-235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Discuss with team members</a:t>
            </a:r>
            <a:endParaRPr b="0" lang="en-US" sz="3600" spc="-1" strike="noStrike">
              <a:solidFill>
                <a:srgbClr val="000000"/>
              </a:solidFill>
              <a:latin typeface="Georgia"/>
            </a:endParaRPr>
          </a:p>
          <a:p>
            <a:pPr marL="335520" indent="-235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nter 3 bookmarks</a:t>
            </a:r>
            <a:endParaRPr b="0" lang="en-US" sz="3600" spc="-1" strike="noStrike">
              <a:solidFill>
                <a:srgbClr val="000000"/>
              </a:solidFill>
              <a:latin typeface="Georgia"/>
            </a:endParaRPr>
          </a:p>
          <a:p>
            <a:pPr lvl="1" marL="604440" indent="-2264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how cut score</a:t>
            </a:r>
            <a:endParaRPr b="0" lang="en-US" sz="3600" spc="-1" strike="noStrike">
              <a:solidFill>
                <a:srgbClr val="438086"/>
              </a:solidFill>
              <a:latin typeface="Georgia"/>
            </a:endParaRPr>
          </a:p>
          <a:p>
            <a:pPr lvl="1" marL="604440" indent="-2264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how impact</a:t>
            </a:r>
            <a:endParaRPr b="0" lang="en-US" sz="3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3T18:22:42Z</dcterms:created>
  <dc:creator>mike</dc:creator>
  <dc:description/>
  <dc:language>en-US</dc:language>
  <cp:lastModifiedBy>Kathryn Bunch</cp:lastModifiedBy>
  <cp:lastPrinted>2002-05-13T21:55:01Z</cp:lastPrinted>
  <dcterms:modified xsi:type="dcterms:W3CDTF">2020-03-30T15:19:04Z</dcterms:modified>
  <cp:revision>37</cp:revision>
  <dc:subject/>
  <dc:title>Selection of Panelists</dc:title>
</cp:coreProperties>
</file>